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E57-404D-4879-8E31-2CB3C9D8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E1E-01EC-495E-953C-B3FA9A4B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E6E-D728-40C9-9AA6-60D377C0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D5C-AF57-4072-B380-B12FC464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FE49-8E91-4DDD-BE44-559EE340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20BD-DE09-44A5-9804-E97997EE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B1DF-70C7-48A8-89B4-697C6589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B919-CCBC-40CF-B7E1-316770A9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431E-27B0-4D6C-B51E-3A4E5EB3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E6C1-551F-40DF-B26B-86B18A25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C442-2AEE-4D0B-97CE-56E3075E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6B6-B5C0-4C8B-A6F8-0A236861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77C8-F8D4-4CD6-AEC5-5E9D1EB4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9113-DF54-482E-9C3C-08E109A9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DDE4-BAFF-460C-8F3B-5426B3EB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30CC-2251-4AF0-8622-7CD2818B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3E9D-E300-450D-933C-B56617A9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27F-1069-4D31-9CA5-FDC2D0A5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BC3-02E2-4958-9F02-D7A1FF42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88A-1607-4115-A26B-05D38F67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E5B-D98C-4A7D-AD01-C54DC88B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EF8-5262-40DB-9BA1-A8B99953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49C-A1CF-463E-92C4-FCEE9C53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9E6-C14A-4EF2-BB95-030E0F97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6424-F107-48DF-8B59-FC0438436E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AC17-EC52-4201-B186-DF08A91B77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owl.english/" TargetMode="External"/><Relationship Id="rId2" Type="http://schemas.openxmlformats.org/officeDocument/2006/relationships/hyperlink" Target="http://www.alpine.k12.ut.us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Berlin Sans FB Demi"/>
              </a:rPr>
              <a:t>Plagiarism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o’s and Don’t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fo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MAIN ID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fo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MAIN ID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 notes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WITHOUT LOOK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he source as often a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fo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MAIN ID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 notes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WITHOUT LOOK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he source as often a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 your notes with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Q, P, S, or 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quotes, summary, paraphrase, or “m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fo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MAIN ID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 notes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WITHOUT LOOK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he source as often a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 your notes with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Q, P, S, or 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quotes, summary, paraphrase, or “m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 you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fo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MAIN ID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 notes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WITHOUT LOOK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he source as often a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 your notes with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Q, P, S, or 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quotes, summary, paraphrase, or “m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 you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 you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OWN VO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sty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ing Plagiarism : Don’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ing Plagiarism : Don’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minimize the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SERIOUSN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plagia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ing Plagiarism : Don’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minimize the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SERIOUSN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plagia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just repeat information you find –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INTERPRET, ANALYZE, and SYNTHE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ing Plagiarism : Don’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minimize the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SERIOUSN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plagia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just repeat information you find –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INTERPRET, ANALYZE, and SYNTHE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just work for a grade – work for real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u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Learning Center at Plagiarism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ing Plagiarism a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owl.englis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urdue.edu/owl/resource/589/01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a Center Legal – Module 8 – Lesson 6 – Plagiarism a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alpine.k12.ut.us/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epts/media/elemlessons_rev/m8-legal_ issues/lesson6plagiarism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urning in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OMEONE ELSE’S WORK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urning in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OMEONE ELSE’S WORK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OPY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someone else’s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WORD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ideas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urning in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OMEONE ELSE’S WORK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OPY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someone else’s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WORD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ideas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ailing to use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QUOTATION MARK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properl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urning in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OMEONE ELSE’S WORK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OPY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someone else’s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WORD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ideas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ailing to use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QUOTATION MARK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properl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iving incorrect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ITATIO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nform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urning in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OMEONE ELSE’S WORK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OPY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someone else’s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WORD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ideas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ailing to use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QUOTATION MARK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properl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iving incorrect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ITATIO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nform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hanging words but copying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ENTENCE STRUCTUR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urning in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OMEONE ELSE’S WORK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OPY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someone else’s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WORD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ideas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ailing to use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QUOTATION MARK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properl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iving incorrect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ITATIO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nform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hanging words but copying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ENTENCE STRUCTUR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pying so many words and ideas from sources that they makes up a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MAJORITY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f your wor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32:41Z</dcterms:created>
  <dc:creator>OHMS</dc:creator>
  <dc:description/>
  <dc:language>en-US</dc:language>
  <cp:lastModifiedBy>OHMS</cp:lastModifiedBy>
  <dcterms:modified xsi:type="dcterms:W3CDTF">2009-01-22T16:26:38Z</dcterms:modified>
  <cp:revision>2</cp:revision>
  <dc:subject/>
  <dc:title>Plagiarism</dc:title>
</cp:coreProperties>
</file>